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A0D1-DF08-4F25-8076-155117837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FA4E-83EC-47C5-8CEF-13B0476C7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95E7-C4B6-4D61-BB00-7A0F8450D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BDFC-E67A-42F3-AEE4-E2B7F7683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0DFA1-4906-407F-98E5-38918A217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CEED3-84B1-47E3-818D-53DB02D4F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464E4-E616-4C8E-98AE-476BAE50F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06F91-0BD9-4341-B99F-9C1D4A5C4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C30E2-59C1-44B4-9010-2FEDC3BE4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54D70-EF3B-4B5C-8355-7E5FC11ED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16711-B1AC-49FE-9F4F-65CE8850B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5CE0-8A42-4C16-A131-6852178E2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D5C08-4E51-4048-ADE6-9A83AE5D1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364D2-9954-4E51-A0BD-0593523FB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A222C-76E5-4E24-9AC5-94FD22778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FB25C-3FDC-469D-98B1-12CFD97EE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A9412-EA70-418A-BBE8-8C7A4076A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E0177D-1589-4364-9930-6BAAEA00D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150FE0-1077-4673-B437-2FE800E7B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0319CB-F7B0-4E9E-AECA-B989B832F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ABB53E-B563-4FBC-9FF3-CAC5ACA54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5C981F-5725-4B11-B0F9-B83A4F0DE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1DA0-4365-4870-9546-57152C89D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C158ED-6660-4CAE-BB18-BACBA8591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1E85D0-4ADE-4119-92AE-0815120BD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9AEDF6-AAC6-4396-8CFE-7463847AF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85FF3F-B152-49ED-B8E5-F40D236F2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DB8C62-C75B-4970-9697-16C697AF5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ED9967-812C-400B-BBC8-6E3AC1687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1B7AB6-F25F-4350-AEC7-7645BD1E7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8AF9F6-5F47-482C-9701-34DC3E979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8D33E3-DDA3-4546-8FD3-C7F27CCD5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1B234A-2EC8-467E-8EC3-FA7C4BB0C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63BE-FFC6-4E53-A4DD-5EF84C3DB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BBECED-CDDA-4199-B81C-AA60B409F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899D3C-DC09-407A-AA8F-E4E97D776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B1B080-5B8D-4B6B-94B3-F77082CE9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596CB6-6C7A-4C23-8AEB-F42948FA4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1D6872-8314-4960-959C-C76F82013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B32EA1-270D-4EEF-80D6-BE47AE0EB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F94DF2-DFC0-4FAB-8F59-FC3E57C29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98A020-15E9-4513-ACDD-81372C5E0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5891DC-33DB-4CBB-86C7-29C16A801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C23B6E-0F26-4A0E-A73F-148EDCA88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6B99-5A21-412B-B545-3C2D1BDED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4EA520-655F-43B0-BB06-2A32D6B0C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83922C-04E2-45D9-B6D3-66C37124D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3C0643-EF13-4F21-B239-90981694A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FACA78-066A-4F47-BC46-9CE65A9FE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1729AA-C0AC-4DF3-8FED-C9CA2482A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AEE25C-E5AB-43F1-8428-79DB44BCC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A1675D-D6A1-4AB4-9A10-1F989EEF8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8D1EC8-D843-4A77-A00B-81D5F853E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4B95B8-9DD9-46D3-A4D7-88F520220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DDFE32-1802-4BC1-B1FD-15EEE73DA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7137-88AB-4246-ABA4-ADBDFB383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7F1D06-5A36-431D-93AB-CE4E9E2EC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10E470-6AEB-49DB-98F1-7B19039C9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A68B51-1CDC-4BC0-B3B1-463EDC522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118397-439F-4CA3-98BC-86D42B36B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9184C7-A1DB-44C0-A7D4-AF3484761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309BEC-86E1-4903-88C6-ACB30D88D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F4F37D-2399-404C-937D-5818DF920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C46878-ABA7-4901-8726-786BD271A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1A375E-719B-43CB-811D-43F879697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E07D56-B6C0-47AA-A847-1BDCBD82F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6600-88CD-43C6-9031-6850C163B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47CE0D-90CE-4C2F-8F76-8A56F87CF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729D21-CF16-48BF-954B-C44CEA1AA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5DEE4A-6A69-4DDB-8299-739A78292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6D28E4-7E23-4171-862C-66B79E2F8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8CECFA-EFAF-4DC9-87B6-75B9D5892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BCEFFC-C676-4532-9F22-BC66F80E6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4E9C11-660D-4D39-BDF3-5451D3107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8BE9C7-2C76-422E-8A59-9612DDD27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F70C23-8AF1-4FF0-BFAD-F0EE51F40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4C4C28-7BFB-4945-8A17-D7846269F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F7DA-0F59-4A41-B23B-3283367E4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A9B97B-17A7-4289-93D5-4FD32BB83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62B348-07A9-47BB-9CF1-9E7F67F11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B4EB9A-9CB2-40B3-9DA0-F001456BB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344637-FF69-4F03-96E3-942A5D0BF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DDEA73-807F-45FE-B678-F4AF2AD9F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1F260B-A816-4015-AD74-0D3071529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5CAE15-CDF2-4C0B-AC83-159D32572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4FD94C-1673-4A95-AB6B-CC8396DA6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3E155F-0F57-427C-AB6B-37FDDE749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363F5C-63A2-41F1-AD58-E1309BED6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0647-4AB8-4750-AB59-D0C6D2524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388A6B-27A0-4834-8A5D-DB9F5F060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6F9FB3-C42F-44EB-8496-2AA4BB20B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A6EF44-289A-4095-8CC2-745396B60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3A3285-4F29-47DB-9C08-F6602F7C6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E9FC6F-2F33-489F-8B2A-54FA1EA87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875A8E-6A11-4880-A2CF-D5021FEB1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FF9B01-7C89-4428-8F01-017297843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308A2B-8950-4DC3-8F2B-B03D42C2C46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0E03CB-BCB0-4299-BF9B-CB300F4F0A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F9A8B0-0E07-48D7-8724-3A1D9A12D6A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E2BB8E-2E0A-4FDE-A35C-0C9AC1F89A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Straight Connector 6"/>
          <p:cNvSpPr/>
          <p:nvPr/>
        </p:nvSpPr>
        <p:spPr>
          <a:xfrm>
            <a:off x="457200" y="1509840"/>
            <a:ext cx="8229600" cy="1440"/>
          </a:xfrm>
          <a:prstGeom prst="line">
            <a:avLst/>
          </a:prstGeom>
          <a:ln w="3240">
            <a:solidFill>
              <a:srgbClr val="c4bd97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traight Connector 6"/>
          <p:cNvSpPr/>
          <p:nvPr/>
        </p:nvSpPr>
        <p:spPr>
          <a:xfrm>
            <a:off x="457200" y="3733920"/>
            <a:ext cx="8229600" cy="1440"/>
          </a:xfrm>
          <a:prstGeom prst="line">
            <a:avLst/>
          </a:prstGeom>
          <a:ln w="3240">
            <a:solidFill>
              <a:srgbClr val="c4bd97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traight Connector 7"/>
          <p:cNvSpPr/>
          <p:nvPr/>
        </p:nvSpPr>
        <p:spPr>
          <a:xfrm>
            <a:off x="457200" y="1981080"/>
            <a:ext cx="8229600" cy="1800"/>
          </a:xfrm>
          <a:prstGeom prst="line">
            <a:avLst/>
          </a:prstGeom>
          <a:ln w="3240">
            <a:solidFill>
              <a:srgbClr val="c4bd97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62816B-0693-4FC9-A2D1-BBA93084AA6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872C89-A9DE-4C26-8D2E-65EDA636CC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traight Connector 6"/>
          <p:cNvSpPr/>
          <p:nvPr/>
        </p:nvSpPr>
        <p:spPr>
          <a:xfrm>
            <a:off x="457200" y="1295280"/>
            <a:ext cx="8229600" cy="1800"/>
          </a:xfrm>
          <a:prstGeom prst="line">
            <a:avLst/>
          </a:prstGeom>
          <a:ln w="3240">
            <a:solidFill>
              <a:srgbClr val="c4bd97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traight Connector 7"/>
          <p:cNvSpPr/>
          <p:nvPr/>
        </p:nvSpPr>
        <p:spPr>
          <a:xfrm>
            <a:off x="457200" y="6246720"/>
            <a:ext cx="8229600" cy="1800"/>
          </a:xfrm>
          <a:prstGeom prst="line">
            <a:avLst/>
          </a:prstGeom>
          <a:ln w="3240">
            <a:solidFill>
              <a:srgbClr val="c4bd97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4B43FD-2221-47F8-9FEB-B9E6A518CBF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1526AC-5A64-4B62-9747-72DD5FA247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traight Connector 6"/>
          <p:cNvSpPr/>
          <p:nvPr/>
        </p:nvSpPr>
        <p:spPr>
          <a:xfrm>
            <a:off x="457200" y="1509840"/>
            <a:ext cx="8229600" cy="1440"/>
          </a:xfrm>
          <a:prstGeom prst="line">
            <a:avLst/>
          </a:prstGeom>
          <a:ln w="3240">
            <a:solidFill>
              <a:srgbClr val="c4bd97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12C584-B965-4517-975E-8A60F8D75DF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DDF724-3B4D-4814-A78C-B09B9F0CC3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Straight Connector 6"/>
          <p:cNvSpPr/>
          <p:nvPr/>
        </p:nvSpPr>
        <p:spPr>
          <a:xfrm>
            <a:off x="457200" y="1509840"/>
            <a:ext cx="8229600" cy="1440"/>
          </a:xfrm>
          <a:prstGeom prst="line">
            <a:avLst/>
          </a:prstGeom>
          <a:ln w="3240">
            <a:solidFill>
              <a:srgbClr val="c4bd97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C2161D-C8B5-4554-8FDA-434C7E7AC92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79CF8B-D2A5-478C-BF61-F14FFFA151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6"/>
          <p:cNvSpPr/>
          <p:nvPr/>
        </p:nvSpPr>
        <p:spPr>
          <a:xfrm>
            <a:off x="457200" y="1509840"/>
            <a:ext cx="8229600" cy="1440"/>
          </a:xfrm>
          <a:prstGeom prst="line">
            <a:avLst/>
          </a:prstGeom>
          <a:ln w="3240">
            <a:solidFill>
              <a:srgbClr val="c4bd97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C3AD20-8461-456D-B0B2-A973FE8D931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2F5063-ACEB-4A79-9D2F-6742F4A401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Straight Connector 6"/>
          <p:cNvSpPr/>
          <p:nvPr/>
        </p:nvSpPr>
        <p:spPr>
          <a:xfrm>
            <a:off x="457200" y="1509840"/>
            <a:ext cx="8229600" cy="1440"/>
          </a:xfrm>
          <a:prstGeom prst="line">
            <a:avLst/>
          </a:prstGeom>
          <a:ln w="3240">
            <a:solidFill>
              <a:srgbClr val="c4bd97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0AEECC-8D1A-493D-9065-3A560B601DA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A5BA59-D8D5-4654-A26F-1E7F943C41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ject Decision Models: 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unching a Clothing Line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am 15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les Alonz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rlyn Armstro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thryn Gi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ra Mosh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hony Odiern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TextBox 4"/>
          <p:cNvSpPr/>
          <p:nvPr/>
        </p:nvSpPr>
        <p:spPr>
          <a:xfrm>
            <a:off x="1981080" y="6488280"/>
            <a:ext cx="5181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day you’re in and the next day you’re out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esult is an optimum mix of sheer talent on each city te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4" name="Picture 3" descr=""/>
          <p:cNvPicPr/>
          <p:nvPr/>
        </p:nvPicPr>
        <p:blipFill>
          <a:blip r:embed="rId1"/>
          <a:stretch/>
        </p:blipFill>
        <p:spPr>
          <a:xfrm>
            <a:off x="598320" y="1371600"/>
            <a:ext cx="8114040" cy="5334120"/>
          </a:xfrm>
          <a:prstGeom prst="rect">
            <a:avLst/>
          </a:prstGeom>
          <a:ln w="0">
            <a:noFill/>
          </a:ln>
        </p:spPr>
      </p:pic>
      <p:sp>
        <p:nvSpPr>
          <p:cNvPr id="365" name="5-Point Star 4"/>
          <p:cNvSpPr/>
          <p:nvPr/>
        </p:nvSpPr>
        <p:spPr>
          <a:xfrm>
            <a:off x="7467480" y="2895480"/>
            <a:ext cx="304920" cy="304920"/>
          </a:xfrm>
          <a:prstGeom prst="pie">
            <a:avLst/>
          </a:prstGeom>
          <a:solidFill>
            <a:srgbClr val="953735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5-Point Star 5"/>
          <p:cNvSpPr/>
          <p:nvPr/>
        </p:nvSpPr>
        <p:spPr>
          <a:xfrm>
            <a:off x="1828800" y="3657600"/>
            <a:ext cx="304920" cy="304920"/>
          </a:xfrm>
          <a:prstGeom prst="pie">
            <a:avLst/>
          </a:prstGeom>
          <a:solidFill>
            <a:srgbClr val="b7dee8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5-Point Star 6"/>
          <p:cNvSpPr/>
          <p:nvPr/>
        </p:nvSpPr>
        <p:spPr>
          <a:xfrm>
            <a:off x="5638680" y="2971800"/>
            <a:ext cx="304920" cy="304920"/>
          </a:xfrm>
          <a:prstGeom prst="pie">
            <a:avLst/>
          </a:prstGeom>
          <a:solidFill>
            <a:srgbClr val="31859c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5-Point Star 7"/>
          <p:cNvSpPr/>
          <p:nvPr/>
        </p:nvSpPr>
        <p:spPr>
          <a:xfrm>
            <a:off x="7086600" y="5638680"/>
            <a:ext cx="304920" cy="304920"/>
          </a:xfrm>
          <a:prstGeom prst="pi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5-Point Star 8"/>
          <p:cNvSpPr/>
          <p:nvPr/>
        </p:nvSpPr>
        <p:spPr>
          <a:xfrm>
            <a:off x="1066680" y="3276720"/>
            <a:ext cx="304920" cy="304560"/>
          </a:xfrm>
          <a:prstGeom prst="pie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5-Point Star 9"/>
          <p:cNvSpPr/>
          <p:nvPr/>
        </p:nvSpPr>
        <p:spPr>
          <a:xfrm>
            <a:off x="1295280" y="3962520"/>
            <a:ext cx="304920" cy="30456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Box 15"/>
          <p:cNvSpPr/>
          <p:nvPr/>
        </p:nvSpPr>
        <p:spPr>
          <a:xfrm>
            <a:off x="6667560" y="3276720"/>
            <a:ext cx="2400120" cy="763560"/>
          </a:xfrm>
          <a:prstGeom prst="rect">
            <a:avLst/>
          </a:prstGeom>
          <a:solidFill>
            <a:srgbClr val="95373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New York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arl Enroth – Hair &amp; Make-up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atthew Formica - Tailo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ndrew Meyerson – PR &amp; Event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Box 16"/>
          <p:cNvSpPr/>
          <p:nvPr/>
        </p:nvSpPr>
        <p:spPr>
          <a:xfrm>
            <a:off x="38160" y="2506680"/>
            <a:ext cx="2095560" cy="763560"/>
          </a:xfrm>
          <a:prstGeom prst="rect">
            <a:avLst/>
          </a:prstGeom>
          <a:solidFill>
            <a:srgbClr val="8064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San Francisc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ave Daly – Make-up &amp; Tailo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Greg Dufraisse – Event Coord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Julie Ha – PR &amp; Hair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Box 17"/>
          <p:cNvSpPr/>
          <p:nvPr/>
        </p:nvSpPr>
        <p:spPr>
          <a:xfrm>
            <a:off x="1066680" y="4572000"/>
            <a:ext cx="1943280" cy="930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Lon Angel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Jon Henrich – Event Coor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Jackie Mendez – Hair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Kim Nixon – PR &amp; Make-up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nnie Tsang - Tailor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Box 18"/>
          <p:cNvSpPr/>
          <p:nvPr/>
        </p:nvSpPr>
        <p:spPr>
          <a:xfrm>
            <a:off x="2209680" y="3481560"/>
            <a:ext cx="2438640" cy="930960"/>
          </a:xfrm>
          <a:prstGeom prst="rect">
            <a:avLst/>
          </a:prstGeom>
          <a:solidFill>
            <a:srgbClr val="b7de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Las Vega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atherine Beal – Hair &amp; Make-up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dam Gromis – Event Coor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ri Kellman – PR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ara Quinn-Porzig - Tailo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Box 19"/>
          <p:cNvSpPr/>
          <p:nvPr/>
        </p:nvSpPr>
        <p:spPr>
          <a:xfrm>
            <a:off x="4800600" y="5715000"/>
            <a:ext cx="2209680" cy="7635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Miami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ammy Loh – Make-up &amp; Tailo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Kareen Rosefort – PR &amp; Hair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lbert So – Event Coord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Box 20"/>
          <p:cNvSpPr/>
          <p:nvPr/>
        </p:nvSpPr>
        <p:spPr>
          <a:xfrm>
            <a:off x="3962520" y="2201760"/>
            <a:ext cx="2514600" cy="763560"/>
          </a:xfrm>
          <a:prstGeom prst="rect">
            <a:avLst/>
          </a:prstGeom>
          <a:solidFill>
            <a:srgbClr val="31859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Chica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udha Belllamkonda - P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Jaspal Singh – Hair &amp; Event Coor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lex Zaretsky – Make-up &amp; Tailo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" dur="2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" dur="2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" dur="2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" dur="2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" dur="2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" dur="2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enario 3: Distributing to Boutiq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nkfully, the promotions all went well!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les must now deliver his suits and shirts from the Chinatown and Garment District ateliers to five Manhattan-based boutiques in the most cost-efficient way possibl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09800" indent="-109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r" pos="537228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irts and suits must be delivered in bund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09800" indent="-109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r" pos="537228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atelier has limited supply of suits and shirts to bundl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05800" indent="-1098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r" pos="537228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natown              55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505800" indent="-109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r" pos="537228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rment District     4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09800" indent="-109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r" pos="537228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tore has specific demand require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05800" indent="-109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r" pos="537228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Ho                       10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05800" indent="-109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r" pos="537228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st Village            6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05800" indent="-109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r" pos="537228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dison Ave           20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05800" indent="-109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r" pos="537228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th Ave                    27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05800" indent="-109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r" pos="537228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per West Side     16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09800" indent="-10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37228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ivery, manufacturing, and demand constraints must be considered when distributing the suits and shir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enario 3: Distributing to Boutiq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457200" y="1447920"/>
            <a:ext cx="601992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mal distribution pl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natow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877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Ho – 10 bund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877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st Village – 6 bund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877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dison Ave – 20 bund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877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ve – 3 bund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rment Distri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877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ve – 24  bund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877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per West Side – 16  bund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1"/>
          <a:stretch/>
        </p:blipFill>
        <p:spPr>
          <a:xfrm>
            <a:off x="6280200" y="1523880"/>
            <a:ext cx="2635200" cy="5126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84" name="5-Point Star 23"/>
          <p:cNvSpPr/>
          <p:nvPr/>
        </p:nvSpPr>
        <p:spPr>
          <a:xfrm>
            <a:off x="7848720" y="5638680"/>
            <a:ext cx="304560" cy="30492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Diamond 25"/>
          <p:cNvSpPr/>
          <p:nvPr/>
        </p:nvSpPr>
        <p:spPr>
          <a:xfrm>
            <a:off x="7607160" y="3809880"/>
            <a:ext cx="228600" cy="228600"/>
          </a:xfrm>
          <a:prstGeom prst="diamond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Diamond 26"/>
          <p:cNvSpPr/>
          <p:nvPr/>
        </p:nvSpPr>
        <p:spPr>
          <a:xfrm>
            <a:off x="7238880" y="5029200"/>
            <a:ext cx="228600" cy="228600"/>
          </a:xfrm>
          <a:prstGeom prst="diamond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Diamond 27"/>
          <p:cNvSpPr/>
          <p:nvPr/>
        </p:nvSpPr>
        <p:spPr>
          <a:xfrm>
            <a:off x="7543800" y="5334120"/>
            <a:ext cx="228600" cy="228600"/>
          </a:xfrm>
          <a:prstGeom prst="diamond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5-Point Star 28"/>
          <p:cNvSpPr/>
          <p:nvPr/>
        </p:nvSpPr>
        <p:spPr>
          <a:xfrm>
            <a:off x="7238880" y="4114800"/>
            <a:ext cx="304920" cy="30492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Diamond 30"/>
          <p:cNvSpPr/>
          <p:nvPr/>
        </p:nvSpPr>
        <p:spPr>
          <a:xfrm>
            <a:off x="7531200" y="3657600"/>
            <a:ext cx="228600" cy="228600"/>
          </a:xfrm>
          <a:prstGeom prst="diamond">
            <a:avLst/>
          </a:prstGeom>
          <a:gradFill rotWithShape="0">
            <a:gsLst>
              <a:gs pos="0">
                <a:srgbClr val="0000ff"/>
              </a:gs>
              <a:gs pos="100000">
                <a:srgbClr val="660066"/>
              </a:gs>
            </a:gsLst>
            <a:lin ang="108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Diamond 31"/>
          <p:cNvSpPr/>
          <p:nvPr/>
        </p:nvSpPr>
        <p:spPr>
          <a:xfrm>
            <a:off x="7162920" y="3505320"/>
            <a:ext cx="228600" cy="228600"/>
          </a:xfrm>
          <a:prstGeom prst="diamond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enario 3: Distributing to Boutiq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6840" y="1523520"/>
            <a:ext cx="838188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ts to deliver 1 bundle from atelier to boutiq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tal minimized cost to distribute suits and shirts to boutiqu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3" name="Picture 7" descr=""/>
          <p:cNvPicPr/>
          <p:nvPr/>
        </p:nvPicPr>
        <p:blipFill>
          <a:blip r:embed="rId1"/>
          <a:stretch/>
        </p:blipFill>
        <p:spPr>
          <a:xfrm>
            <a:off x="3263760" y="4343400"/>
            <a:ext cx="2616480" cy="53352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9" descr=""/>
          <p:cNvPicPr/>
          <p:nvPr/>
        </p:nvPicPr>
        <p:blipFill>
          <a:blip r:embed="rId2"/>
          <a:stretch/>
        </p:blipFill>
        <p:spPr>
          <a:xfrm>
            <a:off x="1155600" y="2133720"/>
            <a:ext cx="6832800" cy="82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 1:  Used solver to maximize profits from shir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 2:  Used Evolutionary solver to assign representatives to the different fashion show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 3:  Used solver to minimize cost and determine optimal shipping plan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estions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TextBox 4"/>
          <p:cNvSpPr/>
          <p:nvPr/>
        </p:nvSpPr>
        <p:spPr>
          <a:xfrm>
            <a:off x="1981080" y="6488280"/>
            <a:ext cx="5181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day you’re in and the next day you’re out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les Alonzo:  Biograph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-and-coming fashion design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hor of award-winning fashion colum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f Stern’s “most eligible bachelors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31035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enario 1: Decid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st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y-to-We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enario 2: Selecting Promotion Tea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enario 3: Distributing to Boutiq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enario 1: Deciding Custom or Ready-to-We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irst decision Charles must make is to determine the most profitable mix of custom and ready-to-wear shirt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current suit sales and after speaking with a number of fashionable Stern students as well as conducting a short survey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he Opp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Charles has determined that there is significant demand at roughly 600 shirts per week in the NYC Metro area alone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veral assumptions had to be made in deciding to produce custom or ready-to-wear shir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457200" y="2133720"/>
            <a:ext cx="41148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1240" indent="-1112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les currently employs 3 tailors and already has sewing machine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11240" indent="-1112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tailor can make 1 shirt in 1 hour (includes client measurements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11240" indent="-1112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ilors can only work 40 hours per week (union rules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11240" indent="-1112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nt for atelier is $4000 per month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11240" indent="-1112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ce of $150 per custom shirt is based on competitive pric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TextBox 3"/>
          <p:cNvSpPr/>
          <p:nvPr/>
        </p:nvSpPr>
        <p:spPr>
          <a:xfrm>
            <a:off x="1295280" y="1600200"/>
            <a:ext cx="2057400" cy="368280"/>
          </a:xfrm>
          <a:prstGeom prst="rect">
            <a:avLst/>
          </a:prstGeom>
          <a:solidFill>
            <a:srgbClr val="17375e"/>
          </a:soli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Box 4"/>
          <p:cNvSpPr/>
          <p:nvPr/>
        </p:nvSpPr>
        <p:spPr>
          <a:xfrm>
            <a:off x="5791320" y="1600200"/>
            <a:ext cx="2057400" cy="368280"/>
          </a:xfrm>
          <a:prstGeom prst="rect">
            <a:avLst/>
          </a:prstGeom>
          <a:solidFill>
            <a:srgbClr val="17375e"/>
          </a:soli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dy-to-W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Content Placeholder 2"/>
          <p:cNvSpPr/>
          <p:nvPr/>
        </p:nvSpPr>
        <p:spPr>
          <a:xfrm>
            <a:off x="5029200" y="2133720"/>
            <a:ext cx="411480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1240" indent="-1112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ustrial cutting and sewing machines would be needed for the mass production of ready-to-wear shi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nt for cutting machines is $1000/w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nt for sewing machines is $500/w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1240" indent="-1112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ts to run the cutting and sewing machines is $25 per shi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1240" indent="-1112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pacity of the machines is 500 shirts per we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1240" indent="-1112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nt for atelier is $4000 per month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1240" indent="-1112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ce of $80 per ready-to-wear shirt is based on competitive pri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stom shirts are the better option to pursue due to higher margin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3" name="Picture 6" descr=""/>
          <p:cNvPicPr/>
          <p:nvPr/>
        </p:nvPicPr>
        <p:blipFill>
          <a:blip r:embed="rId1"/>
          <a:stretch/>
        </p:blipFill>
        <p:spPr>
          <a:xfrm>
            <a:off x="152280" y="1371600"/>
            <a:ext cx="4375440" cy="475452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 txBox="1"/>
          <p:nvPr/>
        </p:nvSpPr>
        <p:spPr>
          <a:xfrm>
            <a:off x="4724280" y="144792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1240" indent="-1112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y-to-wear shirts require high fixed and variable cost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11240" indent="-1112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achines needed for ready-to-wear shirts have limited capacity available, therefore we are unable to scale produc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11240" indent="-1112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gin on custom shirts is better due to premium pric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11240" indent="-1112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ommendation: Charles should consider hiring more tailors to produce more custom shirts and increase profi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5" name="Picture 8" descr=""/>
          <p:cNvPicPr/>
          <p:nvPr/>
        </p:nvPicPr>
        <p:blipFill>
          <a:blip r:embed="rId2"/>
          <a:stretch/>
        </p:blipFill>
        <p:spPr>
          <a:xfrm>
            <a:off x="5003640" y="4883040"/>
            <a:ext cx="3835440" cy="16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enario 2: Selecting Promotion Tea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les must now promote his line of custom shirts at six fashion shows across the country. He will send teams of 3-4 representatives to the events to generate interest in his lin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are 20 people on Charles’ staff, each of whom has expertise in at least one of the following areas:  PR, hair, makeup, event coordination and tailoring. Each team must be composed with experts in each of the five area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irst step in composing teams is identifying expertise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9" name="Picture 2" descr=""/>
          <p:cNvPicPr/>
          <p:nvPr/>
        </p:nvPicPr>
        <p:blipFill>
          <a:blip r:embed="rId1"/>
          <a:stretch/>
        </p:blipFill>
        <p:spPr>
          <a:xfrm>
            <a:off x="476280" y="1600200"/>
            <a:ext cx="8191440" cy="35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 team members will have to represent the fashion house as experts in more than one are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1" name="Picture 2" descr=""/>
          <p:cNvPicPr/>
          <p:nvPr/>
        </p:nvPicPr>
        <p:blipFill>
          <a:blip r:embed="rId1"/>
          <a:stretch/>
        </p:blipFill>
        <p:spPr>
          <a:xfrm>
            <a:off x="2097000" y="1411200"/>
            <a:ext cx="4953240" cy="1623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62" name="Picture 4" descr=""/>
          <p:cNvPicPr/>
          <p:nvPr/>
        </p:nvPicPr>
        <p:blipFill>
          <a:blip r:embed="rId2"/>
          <a:stretch/>
        </p:blipFill>
        <p:spPr>
          <a:xfrm>
            <a:off x="988920" y="3151080"/>
            <a:ext cx="7392960" cy="3554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9T01:07:07Z</dcterms:created>
  <dc:creator>CHARLES ALONZO</dc:creator>
  <dc:description/>
  <dc:language>en-US</dc:language>
  <cp:lastModifiedBy>Kara Mosher</cp:lastModifiedBy>
  <dcterms:modified xsi:type="dcterms:W3CDTF">2008-12-01T18:19:18Z</dcterms:modified>
  <cp:revision>41</cp:revision>
  <dc:subject/>
  <dc:title>Slide 1</dc:title>
</cp:coreProperties>
</file>